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C25E-0998-47DC-8057-EB605B20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983-F8CF-4295-8D2E-98BD9EE3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A612-68AC-4B09-874E-3E32667A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350-F791-4127-8EC2-55CB4598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83690-E513-4576-B837-35540423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86136-59B2-4B74-9005-0CE5226C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D22F8-653C-4745-9132-39849364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5646E-74CD-432C-8194-768F10D5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C5496-BC37-4BCF-B4FA-49279743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A2D9A-CEB0-48B7-A693-05844F7A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89C0C-6559-44DF-B5B5-E345E652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D1D-80E4-4604-8326-DB4A02DC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139C5-E4A2-47A6-A1F8-13FD2A23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E1B24-5413-4CD1-BFBC-3DCE1AC1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D2235-912C-47A7-89D1-36B9DB73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C1078-3548-460D-B9FC-CB175DA8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4829B0-1274-4EC1-888A-EAF3E57D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0346A-EFFD-40AF-88A2-7B5488E0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6A2F8-AB93-4325-A6D6-36AB36F0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423EF-48A4-4C05-8C6A-89419FD8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82C86-71FB-426B-B4DA-C060766B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00635-424C-4661-86A0-21DCF167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7910-A8A3-478C-8065-BC57C096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5FDFE-1B0B-4C2C-8469-C9DCD273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A5B7A-94B0-453C-8D26-BDC3A035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47601-3F1E-4C12-A83C-2C92FA65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94E9D-8E58-4AA8-AE9E-41A21449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C1036-D9D4-4FB2-8F26-53034582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106C3-4469-427C-BB76-6458A103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5DB37-3A2B-48F6-A552-81B013D7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7F5F5-764C-4C57-A839-083DD890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6ED1B-DFA9-4F63-8D3A-C688755D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44AEB-EDA9-40B0-84F0-83AAFE27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4758-7BE8-443A-BC9C-384DE380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52F3E-17AA-4FE5-8763-842D191D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F6D75-FA35-46E9-A071-9CF7E6DE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00068-4975-47B9-8754-B7C527FD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274E1-35F6-48AB-BDD7-8295E3EE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B2B36-9981-4C26-9D0E-73F35417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03E9C-C6B7-41AD-9192-904F4DE4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35A99-B31D-402C-9140-2CF7BE31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543C9-AF93-454D-B8FE-86F01EE1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D916C-7C94-462A-B1D5-B827F75E7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AE7C6-D825-4828-804C-3CEA3D0D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655-686B-4AA7-BAEF-73E1C4FE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4EB31-B619-41AA-A061-02CB040A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C10F4-BC7C-4680-8C2B-A9814520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742A4-B433-42BB-B67A-9C7A2D06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A9C0D-4808-4DE9-B739-48532C46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EC8C8-3688-43D0-B8D8-51404E25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F3D13-505C-40E1-AF25-868F06B1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06735-8C97-4099-BAC4-4E2A3A9C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49945-14B3-41A4-9906-7A2135DC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798D8-D822-4FA9-A973-0E4C20BA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8F5B6-0EFB-4998-8D86-87DDE69F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916-6DE0-4F9F-88BB-840BAD84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D0B80-CB6E-4F54-898D-36C084BF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AA6F1-26F6-40B3-B4FB-65EC0F9C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A21EA-48EC-48F7-927B-3B18304D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134A7-146D-4B7D-8DB5-D6605EEB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F1986-17E5-4338-93F9-D3289126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B715F-CA33-4700-9B4F-3DE0B25F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513B4-7764-4610-AE9C-447D4D3F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68EAF-C1BA-4BAD-AED8-CDB45DAA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F7815-794B-4B08-8660-D588BDEF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A3BD8-C0A8-42A8-9CC3-8F65222B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652E-E55F-4297-A1A6-7929568D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F8B37-5199-4894-B79E-9171E7D9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74391-0854-4FAF-B7F2-515FF8EE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BA772-888E-4A72-A973-74193B44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335CD-6131-40ED-B671-03621EAD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40D5E-1175-45ED-B249-E6A896D3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72A58-3B45-4897-B3D5-25AB8FAE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E0665-AFFB-4FD7-99F2-797A1BAB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CA0CA-DA25-49A4-B237-3D62A405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C7B7F-41E5-4D87-90C2-6F52F230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59315-682E-4B12-91DE-E994D5B1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D18-D9A5-4753-B82F-D9B0D60A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DB589-1395-4F1E-984A-E370F1DA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89063-2691-4521-8CBB-941F72B5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2F683-28B5-4B20-9107-D0678659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A5962-489A-4320-80DE-4D683287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756E5-3528-4C3E-9245-08C69EC9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E9D-45C2-49E0-A8D5-3AA8760D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0946-7A03-439D-85CE-44420FC14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46E8-0084-41E2-9C97-449E1F1F8EA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412C-8715-4D3C-9D17-B12BE71ECBB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AD7A-1DF1-48DB-AD2F-B4DC58F0D8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1564-926E-4A0B-A915-5F3A5AB8E5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2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3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3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CD06-DA74-4568-986C-17131FA6AD9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0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0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4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5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8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9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9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0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0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1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2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C7A3-BECA-442E-AEE5-2F809203E21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7.WAV" TargetMode="External"/><Relationship Id="rId2" Type="http://schemas.microsoft.com/office/2007/relationships/media" Target="file:///tmp/home/.config/libreoffice/4/user/gallery/~PP17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124.WAV" TargetMode="External"/><Relationship Id="rId2" Type="http://schemas.microsoft.com/office/2007/relationships/media" Target="file:///tmp/home/.config/libreoffice/4/user/gallery/~PP2124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4057.WAV" TargetMode="External"/><Relationship Id="rId2" Type="http://schemas.microsoft.com/office/2007/relationships/media" Target="file:///tmp/home/.config/libreoffice/4/user/gallery/~PP4057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271.WAV" TargetMode="External"/><Relationship Id="rId2" Type="http://schemas.microsoft.com/office/2007/relationships/media" Target="file:///tmp/home/.config/libreoffice/4/user/gallery/~PP2271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641.WAV" TargetMode="External"/><Relationship Id="rId2" Type="http://schemas.microsoft.com/office/2007/relationships/media" Target="file:///tmp/home/.config/libreoffice/4/user/gallery/~PP641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141.WAV" TargetMode="External"/><Relationship Id="rId2" Type="http://schemas.microsoft.com/office/2007/relationships/media" Target="file:///tmp/home/.config/libreoffice/4/user/gallery/~PP1141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~PP3669.WAV" TargetMode="External"/><Relationship Id="rId3" Type="http://schemas.microsoft.com/office/2007/relationships/media" Target="file:///tmp/home/.config/libreoffice/4/user/gallery/~PP3669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~PP24.WAV" TargetMode="External"/><Relationship Id="rId3" Type="http://schemas.microsoft.com/office/2007/relationships/media" Target="file:///tmp/home/.config/libreoffice/4/user/gallery/~PP24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file:///tmp/home/.config/libreoffice/4/user/gallery/~PP2241.WAV" TargetMode="External"/><Relationship Id="rId5" Type="http://schemas.microsoft.com/office/2007/relationships/media" Target="file:///tmp/home/.config/libreoffice/4/user/gallery/~PP2241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~PP4035.WAV" TargetMode="External"/><Relationship Id="rId3" Type="http://schemas.microsoft.com/office/2007/relationships/media" Target="file:///tmp/home/.config/libreoffice/4/user/gallery/~PP4035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421.WAV" TargetMode="External"/><Relationship Id="rId2" Type="http://schemas.microsoft.com/office/2007/relationships/media" Target="file:///tmp/home/.config/libreoffice/4/user/gallery/~PP1421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~PP3060.WAV" TargetMode="External"/><Relationship Id="rId3" Type="http://schemas.microsoft.com/office/2007/relationships/media" Target="file:///tmp/home/.config/libreoffice/4/user/gallery/~PP3060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~PP3901.WAV" TargetMode="External"/><Relationship Id="rId3" Type="http://schemas.microsoft.com/office/2007/relationships/media" Target="file:///tmp/home/.config/libreoffice/4/user/gallery/~PP3901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303.WAV" TargetMode="External"/><Relationship Id="rId2" Type="http://schemas.microsoft.com/office/2007/relationships/media" Target="file:///tmp/home/.config/libreoffice/4/user/gallery/~PP1303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ein Ferie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n: Max Shey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alle Europa besichtig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4"/>
          <a:stretch/>
        </p:blipFill>
        <p:spPr>
          <a:xfrm>
            <a:off x="685800" y="1143000"/>
            <a:ext cx="7693200" cy="51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0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camping in den berg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4"/>
          <a:stretch/>
        </p:blipFill>
        <p:spPr>
          <a:xfrm>
            <a:off x="609480" y="1295280"/>
            <a:ext cx="7925040" cy="528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4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spanien musik gehor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4"/>
          <a:stretch/>
        </p:blipFill>
        <p:spPr>
          <a:xfrm>
            <a:off x="1600200" y="1295280"/>
            <a:ext cx="655020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8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fussball geseh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1600200" y="1143000"/>
            <a:ext cx="6477120" cy="55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2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ch habe souvenirs gekauf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6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ch habe im ozean geangelt.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72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9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836200" cy="681192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Europa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759880" cy="654048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m hote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6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038480" cy="232236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324320" cy="242892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3"/>
          <a:stretch/>
        </p:blipFill>
        <p:spPr>
          <a:xfrm>
            <a:off x="2514600" y="3757680"/>
            <a:ext cx="4343400" cy="310032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war in Deutschland, England, und Spaini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836200" cy="66276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Berg gewander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4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gutes essen gegess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4"/>
          <a:stretch/>
        </p:blipFill>
        <p:spPr>
          <a:xfrm>
            <a:off x="2286000" y="1143000"/>
            <a:ext cx="456084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6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507528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familie besuc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0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838080" y="1228680"/>
            <a:ext cx="7506000" cy="562932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fussball gespiel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bin im Ozean geschwomm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4"/>
          <a:stretch/>
        </p:blipFill>
        <p:spPr>
          <a:xfrm>
            <a:off x="152280" y="1219320"/>
            <a:ext cx="8610840" cy="50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6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08:18Z</dcterms:created>
  <dc:creator>CUSD220</dc:creator>
  <dc:description/>
  <dc:language>en-US</dc:language>
  <cp:lastModifiedBy>CUSD220</cp:lastModifiedBy>
  <dcterms:modified xsi:type="dcterms:W3CDTF">2011-11-16T17:05:34Z</dcterms:modified>
  <cp:revision>5</cp:revision>
  <dc:subject/>
  <dc:title>Mein Ferien</dc:title>
</cp:coreProperties>
</file>